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CBE-7C95-448E-A06C-AE41547E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ACA7-F1E3-4B04-AFD8-D24BD039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76A-21CA-4654-BCDA-3F8BD7C0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44A-B02C-42BE-93C0-E6FD2914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2DE-F621-4D27-A045-683DC5E2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645-D53F-4FA6-82D7-A03555F5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8901-C715-4D84-BB29-D9E6A653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D45-553A-49E5-BD5B-314546BF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78A-2070-4BC9-93EC-B13FB052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E5B-90EC-4BCD-B029-0F1BD035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3EF1-F532-4777-9E75-BC553788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B90-B524-454E-9B68-6272C04E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8EA6-B705-4314-8CB2-A3C279D50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6480000" cy="5048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56360" y="0"/>
            <a:ext cx="3887640" cy="302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814880" y="2852640"/>
            <a:ext cx="92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5720" y="915840"/>
            <a:ext cx="219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→e</a:t>
            </a:r>
            <a:r>
              <a:rPr b="0" lang="fr-FR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10520" y="587700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4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S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5:05:25Z</dcterms:created>
  <dc:creator>J.E Campagne</dc:creator>
  <dc:description/>
  <dc:language>en-US</dc:language>
  <cp:lastModifiedBy>J.E Campagne</cp:lastModifiedBy>
  <dcterms:modified xsi:type="dcterms:W3CDTF">2006-04-06T15:06:11Z</dcterms:modified>
  <cp:revision>2</cp:revision>
  <dc:subject/>
  <dc:title>Diapositive 1</dc:title>
</cp:coreProperties>
</file>